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53.wmf" ContentType="image/x-wmf"/>
  <Override PartName="/ppt/media/image51.png" ContentType="image/png"/>
  <Override PartName="/ppt/media/image50.gif" ContentType="image/gif"/>
  <Override PartName="/ppt/media/image48.jpeg" ContentType="image/jpeg"/>
  <Override PartName="/ppt/media/image47.wmf" ContentType="image/x-wmf"/>
  <Override PartName="/ppt/media/image13.jpeg" ContentType="image/jpeg"/>
  <Override PartName="/ppt/media/image52.gif" ContentType="image/gif"/>
  <Override PartName="/ppt/media/image45.png" ContentType="image/png"/>
  <Override PartName="/ppt/media/image42.gif" ContentType="image/gif"/>
  <Override PartName="/ppt/media/image44.wmf" ContentType="image/x-wmf"/>
  <Override PartName="/ppt/media/image43.gif" ContentType="image/gif"/>
  <Override PartName="/ppt/media/image40.wmf" ContentType="image/x-wmf"/>
  <Override PartName="/ppt/media/image18.png" ContentType="image/png"/>
  <Override PartName="/ppt/media/image39.wmf" ContentType="image/x-wmf"/>
  <Override PartName="/ppt/media/image36.wmf" ContentType="image/x-wmf"/>
  <Override PartName="/ppt/media/image25.jpeg" ContentType="image/jpeg"/>
  <Override PartName="/ppt/media/image62.wmf" ContentType="image/x-wmf"/>
  <Override PartName="/ppt/media/image22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59.gif" ContentType="image/gif"/>
  <Override PartName="/ppt/media/image1.png" ContentType="image/png"/>
  <Override PartName="/ppt/media/image29.wmf" ContentType="image/x-wmf"/>
  <Override PartName="/ppt/media/image24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49.gif" ContentType="image/gif"/>
  <Override PartName="/ppt/media/image17.jpeg" ContentType="image/jpeg"/>
  <Override PartName="/ppt/media/image21.png" ContentType="image/png"/>
  <Override PartName="/ppt/media/image68.png" ContentType="image/png"/>
  <Override PartName="/ppt/media/image65.gif" ContentType="image/gif"/>
  <Override PartName="/ppt/media/image73.png" ContentType="image/png"/>
  <Override PartName="/ppt/media/image72.png" ContentType="image/png"/>
  <Override PartName="/ppt/media/image33.wmf" ContentType="image/x-wmf"/>
  <Override PartName="/ppt/media/image66.wmf" ContentType="image/x-wmf"/>
  <Override PartName="/ppt/media/image64.gif" ContentType="image/gif"/>
  <Override PartName="/ppt/media/image20.png" ContentType="image/png"/>
  <Override PartName="/ppt/media/image70.png" ContentType="image/png"/>
  <Override PartName="/ppt/media/image69.png" ContentType="image/png"/>
  <Override PartName="/ppt/media/image67.jpeg" ContentType="image/jpeg"/>
  <Override PartName="/ppt/media/image26.wmf" ContentType="image/x-wmf"/>
  <Override PartName="/ppt/media/image63.wmf" ContentType="image/x-wmf"/>
  <Override PartName="/ppt/media/image23.png" ContentType="image/png"/>
  <Override PartName="/ppt/media/image60.gif" ContentType="image/gif"/>
  <Override PartName="/ppt/media/image27.wmf" ContentType="image/x-wmf"/>
  <Override PartName="/ppt/media/image9.jpeg" ContentType="image/jpeg"/>
  <Override PartName="/ppt/media/image11.png" ContentType="image/png"/>
  <Override PartName="/ppt/media/image46.jpeg" ContentType="image/jpeg"/>
  <Override PartName="/ppt/media/image55.gif" ContentType="image/gif"/>
  <Override PartName="/ppt/media/image34.png" ContentType="image/png"/>
  <Override PartName="/ppt/media/image32.wmf" ContentType="image/x-wmf"/>
  <Override PartName="/ppt/media/image71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19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31.wmf" ContentType="image/x-wmf"/>
  <Override PartName="/ppt/media/image61.jpeg" ContentType="image/jpeg"/>
  <Override PartName="/ppt/media/image5.png" ContentType="image/png"/>
  <Override PartName="/ppt/media/image12.png" ContentType="image/png"/>
  <Override PartName="/ppt/media/image56.gif" ContentType="image/gif"/>
  <Override PartName="/ppt/media/image58.gif" ContentType="image/gif"/>
  <Override PartName="/ppt/media/image30.jpeg" ContentType="image/jpeg"/>
  <Override PartName="/ppt/media/image37.wmf" ContentType="image/x-wmf"/>
  <Override PartName="/ppt/media/image35.jpeg" ContentType="image/jpeg"/>
  <Override PartName="/ppt/media/image57.png" ContentType="image/png"/>
  <Override PartName="/ppt/media/image54.gif" ContentType="image/gif"/>
  <Override PartName="/ppt/media/laser.wav" ContentType="audio/x-wav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4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ftr" idx="4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A9AA-04C2-4860-9206-1E6A73AC3E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152-241A-43CA-B9DF-6E724485CA0B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964-4A55-4CCB-8EE4-A7CCDC998DE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FF8E-FC0E-40DA-8CA8-D903C2EB6B2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9A4D-3CE2-4F50-99A0-94D4D23CA6B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C8F4-2323-4AE0-A26F-39730D8834D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2746-E8A0-4F52-98C6-EC512B4B5EC0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434-7347-4E8C-B844-016E0BAE1333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F57-D3D5-4AC5-A535-384B73B28F5F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4B7-7E83-4BC9-AA83-9A4A4967F309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CCF-4B44-45C8-B3B1-C0FACFACFD38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479-D3BD-481F-AEF6-26C3F38CE87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29D-6E15-449D-8C8B-2EE25FC0E882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E33-9CEC-4A2E-BC0A-956DA0099B5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A98-8777-40B4-937A-7679DC8AB7F1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3269-D180-48C3-953C-EC869132F365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1C7-65C8-47E9-B846-64C7B44483ED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505-2504-476F-98B9-EC6FCE67FE1E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456B-E84B-4790-8AE9-AE9A8FCC6F6F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6383-1B9A-476C-BF10-221FD8EEB72C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F2D-34DD-4AF1-8FA4-16D815346C1E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92C-B448-4B81-89C2-A638C3B5821A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275F-019A-4355-97DE-AC38F51EDBE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4FB-4D4C-49B8-A35C-8F649E8B5E4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9B37-3B08-4A45-82DD-6E7B6BAA600D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A1B0-CFC5-4FEE-8C24-57AED275EE7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EE2-0D7C-4581-8497-67B9E14E52F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C1D-09EA-4A5B-9F79-5F9278D43C5E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BCB3-F6D3-4559-A2FB-5FD831CBB4A2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5C3B-B857-4B89-8EBE-EDE2C7360D09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6EB-1305-4486-B3C0-0233979B1293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AEC9-C289-480D-B5D5-3DCFDC34F23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E90-9F3B-4FFC-A8E2-7F24658ADB1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CF91-C595-4331-A24A-FB105514670D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1B7-3D18-4537-A075-40B0435BA215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440-50B1-449D-BC0C-9FFFE4CFDFE1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6FD-1628-465D-8175-1B11957F2A22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B7E-F25B-4CB1-9801-95C31B55E4DE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DFE-7F51-4DE3-B889-E2A54D43F51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64A-3B4E-47BF-B28F-7FDB2C20B720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5CA-AC96-46CA-838B-CE6B609B2CC4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9BA-215E-4BF4-AC0B-9CFF716A7C55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542-5855-46D5-BC2D-36CB80AFD08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F0C8-57C1-4463-A86A-F0E7FE4D9A67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A70-52DF-412B-AD2A-D1FC056D9C06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E91-562C-42C4-AB47-B52DDD5E5F19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416-496B-4E9E-B3DD-54B3EB3AE16D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FA5-865D-4174-A751-D4F6D11EBF0F}" type="slidenum">
              <a:rPr b="0" lang="en-GB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F262-2696-4E93-8053-495D87E5207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2A8A-6412-4D02-9580-1D23880359F4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A10E-0E7A-45BE-A4A4-D00437AA22A0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0288-30A5-47D4-B7A1-DBDD970BDCE8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66BB-A99A-421C-A7BF-B3B82DA64FAF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B3B-5CA2-4B2F-A6E0-025D2E199B46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5C5-8778-4500-9230-889363EE6A6C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39A6-EE73-473E-8B2F-E86B09ECBC40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D7C-1BDE-4D3B-A462-2CAFB9F79E7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68B-40C7-4A91-A860-9F112698EB54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833D-F36A-41EA-A02B-0F7839ABAD38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A81-1770-4093-B1A6-419CA31D0977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063B-0935-4237-80FC-26749AB2EF46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A34-7A1B-4DBE-8568-07E6BB064A2A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B0A-D14E-459E-B83F-930110D60D45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907-4BB0-404D-AE21-056FA9832554}" type="slidenum">
              <a:rPr b="0" lang="en-US" sz="1200" spc="-1" strike="noStrike">
                <a:solidFill>
                  <a:srgbClr val="3366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33D-3B13-4541-AF2E-54A522D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A51-D18C-45E4-A058-92BB45B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7624-AE1F-48EA-A9CB-0A6A7887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754B6-EEFD-49E4-B95F-83CF04CF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C7B9-B89F-48F1-B43C-E674E2C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4FDA4-41D3-4728-B01D-275ACD2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D0794-A383-43F4-B486-8A2878D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88EEF-0289-4127-AF13-820F7DB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4667E-E976-46FF-A551-FA94C60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B916D-E07A-427C-A6DA-1BD55E98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B3C65-F47B-49E8-AF63-A7F33BFB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2319-6CBA-4513-BB51-370DCE74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603-03E4-4531-B4A6-C2269003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D5D97-C52C-4129-84AD-4673AAB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E3648-557A-44BA-B649-21DBE110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16ADB-D807-47A9-9E81-3748856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A173-3ED7-49AB-BF89-5107645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BB7F-8737-4935-AEDC-D5CC5198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A9B04-6D29-4530-BCA9-07D4D2B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FAE7-5F98-4257-8A85-CD6CBA7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72913-9859-4758-A9AD-28C272D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A9BD8-6F0E-4471-B0A4-E5F84FC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8BA37-80AD-47C1-B60C-7CE1063D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AD0-4B2D-498E-99F5-F315C631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F1C94-6956-4352-B247-23FD8943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DE121-B8E9-45FB-A6EF-D09282D5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DFE0B-70E4-4C30-84CF-A7D5555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38706-5CED-4AB4-986F-9F358BA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0C61-E4FF-4176-8AD4-2DE741B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DB7A9-B0BB-4E21-B8AC-65DEEA4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61A85-6C6B-4783-AF89-46AA4A21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38DB3-22A9-4F17-822A-83F898A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7FA30-9FBD-4868-8EC2-BF14BD6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8901-7E2D-43B4-A8B4-FD89804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E2D-150D-4128-A381-187ABE96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80321-F100-4EAE-95C1-0C82651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B293D-D0C9-43D3-AD4A-D068B56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54BCF-F622-4DAE-8921-2798465E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A59EF-9DDA-4129-8B70-00EF3A29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8A7BD-FBD4-4539-BF05-4897DA6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C94A8-162B-4CFC-8C72-8CA6978F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E1218-1C74-49A7-8574-19F00A3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97A62-6F5F-4093-87EE-CF962D5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E3C74-4C59-4BA5-8C13-94BDFBE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26AA-412E-44DA-B42E-3968B10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E42-4CB1-4AB4-9884-CEC998F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0FE82-C6F2-4232-8939-BEA209D0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38A46-A116-4527-8D4D-17D3BD3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7552-ECC1-4046-B47F-014EC2D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E9F5B-6048-4040-AB76-A411D79D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9434-6598-47ED-9BCF-61F5D837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C25F0-39B5-468D-AA03-8D779599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D02C0-48A7-460C-AC12-2FDEF2C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BCDBE-03E9-4827-80E0-ADA7ED3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07005-15E0-4774-A4A8-767757C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501EF-9E16-400A-9276-03FA7DB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400C-ADD2-4322-B774-4E976D3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22002-98B0-4DF4-B5EB-63A6992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A516-50D9-487D-B15E-80B8532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FD813-92EA-4448-809C-E87839DD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9CFEB-D82F-45C3-BF38-3F8F0CD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5A514-99AC-474E-AA83-ADE764F6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88262-585F-416F-A94C-99EB3796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C1A8E-6776-47AC-BEC7-B27F8ADB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3A157-D733-4F33-9493-CD4D6F77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0AC73-5245-4A8E-B3AB-9EF6A6D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56BC8-BA2E-4B90-86E7-26CF3DC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709-79F0-41EE-BFD7-977B6C74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9675C-D3FD-4FC2-80CC-A746742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02583-F1B9-4D42-9615-4A7E83C8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FE212-5514-40C2-A1D5-75EC6787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F34CB-418F-4EA8-AA61-F920239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CBD2A-6EB4-4EDE-94B7-2308727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B8CCD-6E4C-4632-A42F-38E4C8D6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93F9C-3E8D-4D6F-921E-41171E0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2B5F8-7A9E-4E67-8B58-D20EDEB0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8FDB3-CDB3-4F9B-AA46-E4BBEEEC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D7A57-3FD0-441A-AF30-922E7384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DFF7-0A8A-4CD7-9C07-0068775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BDEB0-4A59-4A24-BEEB-E56E5F1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01954-1064-455C-9F1D-FDABDCA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E5816-8F79-4F4E-8B87-A583F2D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2C54E-F71E-430D-9C3B-EE327DAA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DC636-ADC6-495C-B9DA-7EA5573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F724A-FFC5-41F8-9710-BA158B6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3482A-F572-4C50-8760-45F57CE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7A272-C93B-42DB-BBB9-939BE20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2EC85-D130-4375-9D99-04FDA5B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B3420-056F-4656-B80A-7942A2CA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77C-28F3-4C47-AE2D-A7F8936C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A8C3C-F89E-4E1A-AD87-C65EB0DB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9AC3-CF0F-42A1-839D-8F24EAF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ACA-B1EA-4D6A-90B8-C097271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AC54-25CA-4143-BFA6-AE9C61FB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75E-98BB-4F49-A4A8-794A02A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731-FF00-4544-85EC-3FC9C52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A24F-20CA-46E2-8419-028CA710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493-AAC6-4810-A18C-2522223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0B36-1783-49DB-890D-519254F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3CCE-5B0A-4B81-B350-7CFF0574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AAF1-DF2F-4784-922A-742D9E82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9F1B-9F82-4A87-AE1C-5693FE2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97AD-EEF1-4C3D-B6FF-652E08C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386-11A5-441C-96D2-AA14301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2ED7-0896-4236-9B12-BCDDDCC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13E0-FE26-402E-8A48-67CE11D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CD0B-A770-4121-830D-49CEF1B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8176-33C9-4DFE-9DAB-67EB1DE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1012-D686-43E6-A762-254E122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B5E1-AC27-4B91-A975-497321D5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5555-0A7C-4CA1-BDC0-1B96C3DC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25C2-DEBF-4DF9-8416-1E18F466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9ACE-1E02-4E55-920B-EFF4CC57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1916-B337-4262-A906-BD88913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1E0-3785-4DEC-A9CD-C85306B8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1300-F618-48B9-80C3-9A39C4C4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93CD-BBA9-4F26-B6F1-3EFA1F2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7176-EE9B-41AF-A491-FF9768B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B4EF-9803-4757-A53E-36D4D98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803A-05EA-42E3-BA5F-459D056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D76D-1212-40D3-B7A3-3BD45DE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129D-8725-402A-BF60-A893A984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EAFD-79BE-4089-8D76-1861EFC7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DDF7-C1C8-4F08-8C25-75201FB6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6D41-9C92-40B4-B6D7-4609545B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D0F-9CF7-428C-AB1B-AFD4C48E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FEDFF-6F62-4FEB-9310-FE3A077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E411-CD23-4354-B0F0-79A4568B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5C99-30B9-4762-97B1-10D5DEC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022B-E89D-4C47-AD27-76C432A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943A-FA30-4F92-97DB-0BBA391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4D68-43AB-442C-9F54-EDB221C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6AEE-090F-44EE-AA50-5E9DB3E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4A2B-1287-4479-AFEF-7ABFD1B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34D2D-2034-4B71-A594-9E8DE26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BEF3-A6AB-4F48-96D2-67AA2F0D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174-F2D8-4D3A-B349-DE025781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F901-1EB0-4A0A-ACC0-3E83A338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DFAD-56A7-448B-A8A6-25243261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DE11-B578-4DA8-AB22-D4B7AFB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97DD-C43F-4516-BEFA-85EEA40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9F8C-405D-43B4-8055-CA6C27F4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0E029-8DCC-4B88-91EF-CA27887B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F0AB-FC1A-4378-8368-85B10E2C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C2E3-BB6A-47CE-81F1-A83A1382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E579-ED19-479B-8713-EA8617F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96FC-0C8F-4175-A597-498B3AC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02D-5DFF-43FB-A0B4-1276D67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B3D1F-2946-4BF7-BD52-6380F96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2D0E-AE47-4096-A3C2-A2146713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6E2F-0295-48B0-A3B8-01807D6D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4741-2EE3-4246-BD17-F6D750D7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2A249-C80B-4AAC-ABF6-731EFAB5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017F-C36A-42F9-A161-61B18A7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B677-BE9E-4B2A-9D4A-A969131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4A820-9EBD-4A55-9E63-D64A07A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B243-4F60-408D-8F32-9C42A7D6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5C1F-C08A-4E07-9587-9B65696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CC6-E686-44B7-9DDC-401D2E7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DA74-9658-4EEA-8791-B69750A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8F714-91B6-46C2-8964-E49D634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F37D-66D6-496D-B761-1850D18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7BD9-DEC7-4ECB-A3E0-EEADA09C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4B2D-512C-4DF7-A49A-DE2A412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F9391-9B57-40DA-85DF-C440B731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5F13A-E668-4B7B-82A8-B73F2C23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9171-969C-43DE-882F-DCAEC2A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82C0-E773-478E-B5B1-4DC4432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095CF-26B5-4058-9BAB-742CA75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B67-CC23-4459-BA4F-13FEC70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5504-6852-49B1-A4C1-71B29768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F6CC-5C09-486A-B037-6B5EEAB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65342-6AA8-48D7-A0B5-D45A1EF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BB45-9812-4E20-9445-E8E8075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3125-DD5D-4045-AAFA-8DA15D1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585E-5660-4D3A-A1C1-DEDCFD68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AE7C9-5619-4FB8-AE79-EAB9DF83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F753-81D2-4D03-9BF2-6C4A66EB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C1D5C-18FF-4472-9B8A-C94E8F2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076AA-A7E7-45A9-A1BD-1757DD98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DD35-BF14-41D6-AC15-2E6B5492F9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E06-033E-461B-8259-655E333C0C0C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43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44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3A4-DEE2-43AF-BE7E-8F442BD07D0E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48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8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49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9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7D6-04C7-41D2-85C8-3732BFFE3B7D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6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7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5810-B358-4BF7-A1BE-97210E98DBB8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5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58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3FE-BB0D-4696-987C-697E5399EE79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3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63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3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63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3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BD76-9BEE-4861-B217-C8AE15B2CE39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A70-0FA7-424E-8B18-F829EF2D66E4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6DAA-509A-4AB8-B3A0-F2395C28F067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  <p:grpSp>
          <p:nvGrpSpPr>
            <p:cNvPr id="9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4A1-374E-45C0-BEB2-1F5C9EE3CF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DC3-9807-410F-B0B3-F16F5764FE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D77-4D85-4413-92C3-E1523B3C7D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59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261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084-BA31-4FB3-9519-0A1BB84CB40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DD4-11BC-4774-8263-61BF103954B3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8B11-0AAF-49CA-A7A3-709E771771FD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image" Target="../media/image17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3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gif"/><Relationship Id="rId3" Type="http://schemas.openxmlformats.org/officeDocument/2006/relationships/image" Target="../media/image51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gif"/><Relationship Id="rId3" Type="http://schemas.openxmlformats.org/officeDocument/2006/relationships/image" Target="../media/image51.png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wmf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6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800080"/>
                </a:solidFill>
                <a:latin typeface="Arial Black"/>
              </a:rPr>
              <a:t>1. Homonyms</a:t>
            </a:r>
            <a:br>
              <a:rPr sz="5600"/>
            </a:br>
            <a:br>
              <a:rPr sz="5600"/>
            </a:br>
            <a:r>
              <a:rPr b="0" lang="en-GB" sz="3000" spc="-1" strike="noStrike">
                <a:solidFill>
                  <a:srgbClr val="800080"/>
                </a:solidFill>
                <a:latin typeface="Arial Black"/>
              </a:rPr>
              <a:t>(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this is the big category—the umbrella—under which we find homophones and homographs). </a:t>
            </a:r>
            <a:endParaRPr b="0" lang="en-US" sz="3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so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se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so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25" name="Picture 11" descr="http://www.mcpasd.k12.wi.us/KMS/Web_Clip_Art/images/SEW_MACH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04920" y="3200400"/>
            <a:ext cx="3200400" cy="311796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1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8" name="Picture 16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17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4572000" y="2076480"/>
            <a:ext cx="3657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toe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toa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towed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31" name="Picture 6" descr="http://arthursamphibians.tripod.com/amphibbw/Toad1.gif"/>
          <p:cNvPicPr/>
          <p:nvPr/>
        </p:nvPicPr>
        <p:blipFill>
          <a:blip r:embed="rId2"/>
          <a:stretch/>
        </p:blipFill>
        <p:spPr>
          <a:xfrm>
            <a:off x="457200" y="3733920"/>
            <a:ext cx="3108240" cy="22809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34" name="Picture 10" descr="http://www.wyrebc.gov.uk/Council_Services/Pollution_Control/Noise_Pollution/Noise_Action_Day/Images/Clipart_Man_with_Hearing_Aid.jpg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35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45720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i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a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37" name="Picture 6" descr="http://www.arts.monash.edu.au/korean/klec/Clipart02/KLEC2003_C112.gif"/>
          <p:cNvPicPr/>
          <p:nvPr/>
        </p:nvPicPr>
        <p:blipFill>
          <a:blip r:embed="rId1"/>
          <a:stretch/>
        </p:blipFill>
        <p:spPr>
          <a:xfrm>
            <a:off x="228600" y="2819520"/>
            <a:ext cx="3692520" cy="38019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0" name="Picture 10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5486400" y="190512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ea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e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43" name="Picture 5" descr="http://www.arts.monash.edu.au/korean/klec/Clipart03/KLEC2003_C215.gif"/>
          <p:cNvPicPr/>
          <p:nvPr/>
        </p:nvPicPr>
        <p:blipFill>
          <a:blip r:embed="rId1"/>
          <a:stretch/>
        </p:blipFill>
        <p:spPr>
          <a:xfrm>
            <a:off x="914400" y="2438280"/>
            <a:ext cx="2631960" cy="4191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6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47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a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eigh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whe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49" name="Picture 5" descr="http://coreacademy.usu.edu/04_Materials/Clip_Art/weight.gif"/>
          <p:cNvPicPr/>
          <p:nvPr/>
        </p:nvPicPr>
        <p:blipFill>
          <a:blip r:embed="rId1"/>
          <a:stretch/>
        </p:blipFill>
        <p:spPr>
          <a:xfrm>
            <a:off x="228600" y="3500280"/>
            <a:ext cx="4114800" cy="29768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6"/>
          <p:cNvSpPr/>
          <p:nvPr/>
        </p:nvSpPr>
        <p:spPr>
          <a:xfrm>
            <a:off x="2286000" y="5634000"/>
            <a:ext cx="53820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53" name="Picture 10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e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’l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hea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56" name="Picture 5" descr="http://media.nasaexplores.com/lessons/03-003/images/knees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43000" y="3429000"/>
            <a:ext cx="2343240" cy="230832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59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60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5486400" y="2076480"/>
            <a:ext cx="3657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uy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by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62" name="Picture 5" descr="http://www.arts.monash.edu.au/korean/klec/Clipart01/KLEC2003_C014.gif"/>
          <p:cNvPicPr/>
          <p:nvPr/>
        </p:nvPicPr>
        <p:blipFill>
          <a:blip r:embed="rId1"/>
          <a:stretch/>
        </p:blipFill>
        <p:spPr>
          <a:xfrm>
            <a:off x="152280" y="3124080"/>
            <a:ext cx="4191120" cy="32054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65" name="Picture 9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10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5486400" y="1741320"/>
            <a:ext cx="36576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aw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a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o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68" name="Picture 10" descr="http://www.clipartheaven.com/clipart/outdoor_recreation/beach_&amp;_water_(a_-_r)/row_boat_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6280" y="3429000"/>
            <a:ext cx="4095720" cy="24163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2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71" name="Picture 14" descr="http://www.wyrebc.gov.uk/Council_Services/Pollution_Control/Noise_Pollution/Noise_Action_Day/Images/Clipart_Man_with_Hearing_Aid.jpg"/>
          <p:cNvPicPr/>
          <p:nvPr/>
        </p:nvPicPr>
        <p:blipFill>
          <a:blip r:embed="rId2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72" name="AutoShape 15">
            <a:hlinkClick r:id="" action="ppaction://hlinkshowjump?jump=endshow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4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95280" y="191628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They sound the same, let’s play the game!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95280" y="41497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See if you can guess which word goes where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3132000" y="6237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Angie. Gore Norwood Primary Southport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1692360" y="260280"/>
            <a:ext cx="55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900000" y="1557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w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558000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83" name="Picture 10" descr="j0232049"/>
          <p:cNvPicPr/>
          <p:nvPr/>
        </p:nvPicPr>
        <p:blipFill>
          <a:blip r:embed="rId2"/>
          <a:stretch/>
        </p:blipFill>
        <p:spPr>
          <a:xfrm>
            <a:off x="2987640" y="2492280"/>
            <a:ext cx="3222720" cy="3527640"/>
          </a:xfrm>
          <a:prstGeom prst="rect">
            <a:avLst/>
          </a:prstGeom>
          <a:ln w="0">
            <a:noFill/>
          </a:ln>
        </p:spPr>
      </p:pic>
      <p:sp>
        <p:nvSpPr>
          <p:cNvPr id="784" name="Line 11"/>
          <p:cNvSpPr/>
          <p:nvPr/>
        </p:nvSpPr>
        <p:spPr>
          <a:xfrm>
            <a:off x="2195640" y="3068640"/>
            <a:ext cx="1800000" cy="115236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3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2. What’s the difference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00"/>
                </a:solidFill>
                <a:latin typeface="Arial"/>
              </a:rPr>
              <a:t>Homophone</a:t>
            </a:r>
            <a:endParaRPr b="0" lang="en-US" sz="3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6840" y="2571480"/>
            <a:ext cx="40402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HOMO ("same") + PHONE ("sound")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00"/>
                </a:solidFill>
                <a:latin typeface="Arial"/>
              </a:rPr>
              <a:t>Homograph</a:t>
            </a:r>
            <a:endParaRPr b="0" lang="en-US" sz="3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644720" y="2500200"/>
            <a:ext cx="4041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HOMO ("same") + GRAPH ("writing")  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133200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539640" y="1557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k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5508720" y="1557360"/>
            <a:ext cx="201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91" name="Picture 15" descr="MCj02305550000[1]"/>
          <p:cNvPicPr/>
          <p:nvPr/>
        </p:nvPicPr>
        <p:blipFill>
          <a:blip r:embed="rId2"/>
          <a:stretch/>
        </p:blipFill>
        <p:spPr>
          <a:xfrm>
            <a:off x="2916360" y="3068640"/>
            <a:ext cx="3816360" cy="324792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3"/>
          <p:cNvSpPr/>
          <p:nvPr/>
        </p:nvSpPr>
        <p:spPr>
          <a:xfrm>
            <a:off x="1547640" y="26028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826920" y="1773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l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3924360" y="1773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601200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7524720" y="17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98" name="Picture 15" descr="MCj00893980000[1]"/>
          <p:cNvPicPr/>
          <p:nvPr/>
        </p:nvPicPr>
        <p:blipFill>
          <a:blip r:embed="rId2"/>
          <a:stretch/>
        </p:blipFill>
        <p:spPr>
          <a:xfrm>
            <a:off x="2916360" y="3141720"/>
            <a:ext cx="3527280" cy="3024000"/>
          </a:xfrm>
          <a:prstGeom prst="rect">
            <a:avLst/>
          </a:prstGeom>
          <a:ln w="0">
            <a:noFill/>
          </a:ln>
        </p:spPr>
      </p:pic>
      <p:sp>
        <p:nvSpPr>
          <p:cNvPr id="799" name="Line 16"/>
          <p:cNvSpPr/>
          <p:nvPr/>
        </p:nvSpPr>
        <p:spPr>
          <a:xfrm flipV="1">
            <a:off x="755640" y="4149360"/>
            <a:ext cx="3311640" cy="10796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1619280" y="260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1547640" y="177336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3924360" y="17733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6012000" y="1773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812000" y="1700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971640" y="458136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From A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6659640" y="4581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8" name="Line 24"/>
          <p:cNvSpPr/>
          <p:nvPr/>
        </p:nvSpPr>
        <p:spPr>
          <a:xfrm>
            <a:off x="3419640" y="4941720"/>
            <a:ext cx="316836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547640" y="26028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1692360" y="148428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995640" y="1484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5651640" y="15573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a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7596360" y="1557360"/>
            <a:ext cx="86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15" name="Picture 25" descr="j0349645"/>
          <p:cNvPicPr/>
          <p:nvPr/>
        </p:nvPicPr>
        <p:blipFill>
          <a:blip r:embed="rId2"/>
          <a:stretch/>
        </p:blipFill>
        <p:spPr>
          <a:xfrm>
            <a:off x="3203640" y="3068640"/>
            <a:ext cx="2881080" cy="231300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1476360" y="260280"/>
            <a:ext cx="57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8. 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18" name="Picture 21" descr="j0289240"/>
          <p:cNvPicPr/>
          <p:nvPr/>
        </p:nvPicPr>
        <p:blipFill>
          <a:blip r:embed="rId2"/>
          <a:stretch/>
        </p:blipFill>
        <p:spPr>
          <a:xfrm>
            <a:off x="2987640" y="3500280"/>
            <a:ext cx="4032360" cy="252108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22"/>
          <p:cNvSpPr/>
          <p:nvPr/>
        </p:nvSpPr>
        <p:spPr>
          <a:xfrm>
            <a:off x="539640" y="1557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k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0" name="Text Box 23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1" name="Text Box 24"/>
          <p:cNvSpPr/>
          <p:nvPr/>
        </p:nvSpPr>
        <p:spPr>
          <a:xfrm>
            <a:off x="5508720" y="1557360"/>
            <a:ext cx="201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ight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2" name="Text Box 25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0000">
    <p:push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3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1116000" y="1557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w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3995640" y="1557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558000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7596360" y="1557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29" name="Picture 13" descr="j0293518"/>
          <p:cNvPicPr/>
          <p:nvPr/>
        </p:nvPicPr>
        <p:blipFill>
          <a:blip r:embed="rId2"/>
          <a:stretch/>
        </p:blipFill>
        <p:spPr>
          <a:xfrm>
            <a:off x="2556000" y="3068640"/>
            <a:ext cx="4248000" cy="272736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3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3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5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1" name="Text Box 13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2" name="Text Box 16"/>
          <p:cNvSpPr/>
          <p:nvPr/>
        </p:nvSpPr>
        <p:spPr>
          <a:xfrm>
            <a:off x="826920" y="177336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l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3" name="Text Box 17"/>
          <p:cNvSpPr/>
          <p:nvPr/>
        </p:nvSpPr>
        <p:spPr>
          <a:xfrm>
            <a:off x="3924360" y="1773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4" name="Text Box 18"/>
          <p:cNvSpPr/>
          <p:nvPr/>
        </p:nvSpPr>
        <p:spPr>
          <a:xfrm>
            <a:off x="601200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a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5" name="Text Box 19"/>
          <p:cNvSpPr/>
          <p:nvPr/>
        </p:nvSpPr>
        <p:spPr>
          <a:xfrm>
            <a:off x="7524720" y="17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36" name="Picture 20" descr="MCj01276740000[1]"/>
          <p:cNvPicPr/>
          <p:nvPr/>
        </p:nvPicPr>
        <p:blipFill>
          <a:blip r:embed="rId2"/>
          <a:stretch/>
        </p:blipFill>
        <p:spPr>
          <a:xfrm>
            <a:off x="3564000" y="3429000"/>
            <a:ext cx="2017800" cy="280980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1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5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1835280" y="148428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r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9" name="Text Box 7"/>
          <p:cNvSpPr/>
          <p:nvPr/>
        </p:nvSpPr>
        <p:spPr>
          <a:xfrm>
            <a:off x="3995640" y="1484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0" name="Text Box 8"/>
          <p:cNvSpPr/>
          <p:nvPr/>
        </p:nvSpPr>
        <p:spPr>
          <a:xfrm>
            <a:off x="5219640" y="14842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ea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1" name="Text Box 9"/>
          <p:cNvSpPr/>
          <p:nvPr/>
        </p:nvSpPr>
        <p:spPr>
          <a:xfrm>
            <a:off x="7380360" y="1557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7451640" y="537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43" name="Picture 17" descr="j0237268"/>
          <p:cNvPicPr/>
          <p:nvPr/>
        </p:nvPicPr>
        <p:blipFill>
          <a:blip r:embed="rId2"/>
          <a:stretch/>
        </p:blipFill>
        <p:spPr>
          <a:xfrm>
            <a:off x="2916360" y="4149720"/>
            <a:ext cx="3889080" cy="2351160"/>
          </a:xfrm>
          <a:prstGeom prst="rect">
            <a:avLst/>
          </a:prstGeom>
          <a:ln w="0">
            <a:noFill/>
          </a:ln>
        </p:spPr>
      </p:pic>
      <p:sp>
        <p:nvSpPr>
          <p:cNvPr id="844" name="Line 18"/>
          <p:cNvSpPr/>
          <p:nvPr/>
        </p:nvSpPr>
        <p:spPr>
          <a:xfrm flipV="1">
            <a:off x="900000" y="5229360"/>
            <a:ext cx="4319640" cy="71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5" name="Text Box 19"/>
          <p:cNvSpPr/>
          <p:nvPr/>
        </p:nvSpPr>
        <p:spPr>
          <a:xfrm>
            <a:off x="3132000" y="2637000"/>
            <a:ext cx="33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he treasure is…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20000">
    <p:push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3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3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3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7"/>
          <p:cNvSpPr/>
          <p:nvPr/>
        </p:nvSpPr>
        <p:spPr>
          <a:xfrm>
            <a:off x="2268360" y="260280"/>
            <a:ext cx="49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omophone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1835280" y="1484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3419640" y="1484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4932360" y="148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875640" y="1413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738036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66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2" name="Text Box 18"/>
          <p:cNvSpPr/>
          <p:nvPr/>
        </p:nvSpPr>
        <p:spPr>
          <a:xfrm>
            <a:off x="1692360" y="4149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ne + one =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3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9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9. Homophon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56760" y="1676520"/>
            <a:ext cx="810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hoose the correct homophone to complete the sentence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1. The boat needed a new__________. sail sale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2. It was a dark___________________. knight nigh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3. I was very______________________. board bored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3. What are Homographs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85480" y="167616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Homographs are words that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pell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he same, but have different meanings and may have different pronunciations.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does</a:t>
            </a: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like to run.</a:t>
            </a:r>
            <a:br>
              <a:rPr sz="3200"/>
            </a:br>
            <a:r>
              <a:rPr b="0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re female deer.</a:t>
            </a: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(Same spelling, different pronunciation.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What are some other examples?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0. Spot the Homophon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1420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Last knight when I looked up, the sky was dark blew.  I new I wood sea stars but eye was surprised buy there brightness.  Who had maid them seam sew beautiful?  I was shore they had bean made millions of years ago, and I was court up in they’re beauty.  I wanted to stair at them four ever, butt my piece was disturbed.  Nun of this would bee forgotten but I knew it was to grate to last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7138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1. Homophones Their &amp;Ther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56760" y="999720"/>
            <a:ext cx="81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Once upon a time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1_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ere five children who lived with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2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mother and father and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3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grandma and granddad in a funny little house.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_4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was no front garden but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5_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was a yard at the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back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.___6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as no bathroom so they had to have a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bath in the back kitchen–and they could only do that</a:t>
            </a: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at night time because that was where the gas stove was, and </a:t>
            </a:r>
            <a:r>
              <a:rPr b="1" lang="en-GB" sz="3000" spc="-1" strike="noStrike" u="sng">
                <a:solidFill>
                  <a:srgbClr val="336600"/>
                </a:solidFill>
                <a:uFillTx/>
                <a:latin typeface="Arial"/>
              </a:rPr>
              <a:t>__7___</a:t>
            </a:r>
            <a:r>
              <a:rPr b="1" lang="en-GB" sz="3000" spc="-1" strike="noStrike">
                <a:solidFill>
                  <a:srgbClr val="336600"/>
                </a:solidFill>
                <a:latin typeface="Arial"/>
              </a:rPr>
              <a:t> was always someone having a bath in the back kitchen. </a:t>
            </a:r>
            <a:endParaRPr b="0" lang="en-US" sz="3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12.  Homophones Usag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213840" y="1213920"/>
            <a:ext cx="8572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Examples of usage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re – used like “was”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here –  a question and a place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ar – used with an item of clothing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e’re = we are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Put the right word in the gap below: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I can’t find my shoes,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1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are they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They are so ugly, I can’t believe you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2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them.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____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3 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to the cinema, do you want to come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I don’t know, we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4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to, but I’m not sure.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5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did you say I can meet you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You’re going to school,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6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going shopping!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What should I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7 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for the disco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__8__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n-GB" sz="2600" spc="-1" strike="noStrike" u="sng">
                <a:solidFill>
                  <a:srgbClr val="336600"/>
                </a:solidFill>
                <a:uFillTx/>
                <a:latin typeface="Arial"/>
              </a:rPr>
              <a:t>    9</a:t>
            </a:r>
            <a:r>
              <a:rPr b="0" lang="en-GB" sz="2600" spc="-1" strike="noStrike">
                <a:solidFill>
                  <a:srgbClr val="336600"/>
                </a:solidFill>
                <a:latin typeface="Arial"/>
              </a:rPr>
              <a:t>__ you going when I saw you?</a:t>
            </a: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More Homonym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ry to Figure out these next homonyms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A flower found in your eye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pic>
        <p:nvPicPr>
          <p:cNvPr id="864" name="Picture 2" descr="C:\Users\Peter\Pictures\Microsoft Clip Organizer\j0434734.png"/>
          <p:cNvPicPr/>
          <p:nvPr/>
        </p:nvPicPr>
        <p:blipFill>
          <a:blip r:embed="rId2"/>
          <a:stretch/>
        </p:blipFill>
        <p:spPr>
          <a:xfrm>
            <a:off x="1335240" y="2108160"/>
            <a:ext cx="2284200" cy="22845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C:\Users\Peter\Pictures\Microsoft Clip Organizer\j0390490.jpg"/>
          <p:cNvPicPr/>
          <p:nvPr/>
        </p:nvPicPr>
        <p:blipFill>
          <a:blip r:embed="rId3"/>
          <a:stretch/>
        </p:blipFill>
        <p:spPr>
          <a:xfrm>
            <a:off x="5468760" y="1736640"/>
            <a:ext cx="2175120" cy="30495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iris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>
            <a:off x="1214280" y="2428920"/>
            <a:ext cx="858240" cy="643320"/>
          </a:xfrm>
          <a:prstGeom prst="bentConnector3">
            <a:avLst>
              <a:gd name="adj1" fmla="val 49979"/>
            </a:avLst>
          </a:prstGeom>
          <a:ln w="9360">
            <a:solidFill>
              <a:srgbClr val="336600"/>
            </a:solidFill>
            <a:round/>
            <a:tailEnd len="med" type="arrow" w="med"/>
          </a:ln>
        </p:spPr>
      </p:cxnSp>
    </p:spTree>
  </p:cSld>
  <p:transition>
    <p:push dir="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Look at this to see what the time i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watch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0" name="Content Placeholder 3" descr="C:\Users\Peter\Pictures\Microsoft Clip Organizer\j0411538.wmf"/>
          <p:cNvPicPr/>
          <p:nvPr/>
        </p:nvPicPr>
        <p:blipFill>
          <a:blip r:embed="rId2"/>
          <a:stretch/>
        </p:blipFill>
        <p:spPr>
          <a:xfrm>
            <a:off x="1643040" y="2214720"/>
            <a:ext cx="1844640" cy="18223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" descr="C:\Users\Peter\Pictures\Microsoft Clip Organizer\j0397172.wmf"/>
          <p:cNvPicPr/>
          <p:nvPr/>
        </p:nvPicPr>
        <p:blipFill>
          <a:blip r:embed="rId3"/>
          <a:stretch/>
        </p:blipFill>
        <p:spPr>
          <a:xfrm>
            <a:off x="5072040" y="2071800"/>
            <a:ext cx="2055960" cy="2127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Your money is not in danger when it is in thi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af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4" name="Picture 2" descr="C:\Users\Peter\Pictures\Microsoft Clip Organizer\j0433844.png"/>
          <p:cNvPicPr/>
          <p:nvPr/>
        </p:nvPicPr>
        <p:blipFill>
          <a:blip r:embed="rId2"/>
          <a:stretch/>
        </p:blipFill>
        <p:spPr>
          <a:xfrm>
            <a:off x="5643720" y="2286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C:\Users\Peter\Pictures\Microsoft Clip Organizer\j0334132.wmf"/>
          <p:cNvPicPr/>
          <p:nvPr/>
        </p:nvPicPr>
        <p:blipFill>
          <a:blip r:embed="rId3"/>
          <a:stretch/>
        </p:blipFill>
        <p:spPr>
          <a:xfrm>
            <a:off x="1428840" y="214308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Practice for a match as you travel on the rails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7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trai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78" name="Picture 2" descr="C:\Users\Peter\Pictures\Microsoft Clip Organizer\j0358031.wmf"/>
          <p:cNvPicPr/>
          <p:nvPr/>
        </p:nvPicPr>
        <p:blipFill>
          <a:blip r:embed="rId2"/>
          <a:stretch/>
        </p:blipFill>
        <p:spPr>
          <a:xfrm>
            <a:off x="5072040" y="2143080"/>
            <a:ext cx="2571840" cy="25686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C:\Users\Peter\Pictures\Microsoft Clip Organizer\j0120961.wmf"/>
          <p:cNvPicPr/>
          <p:nvPr/>
        </p:nvPicPr>
        <p:blipFill>
          <a:blip r:embed="rId3"/>
          <a:stretch/>
        </p:blipFill>
        <p:spPr>
          <a:xfrm>
            <a:off x="1214280" y="2000160"/>
            <a:ext cx="2745000" cy="258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Press down hard with your foot to stick this on the envelop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1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tamp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2" name="Content Placeholder 2" descr="C:\Users\Peter\Pictures\Microsoft Clip Organizer\j0284151.gif"/>
          <p:cNvPicPr/>
          <p:nvPr/>
        </p:nvPicPr>
        <p:blipFill>
          <a:blip r:embed="rId2"/>
          <a:stretch/>
        </p:blipFill>
        <p:spPr>
          <a:xfrm>
            <a:off x="5286240" y="2071800"/>
            <a:ext cx="2602080" cy="2600280"/>
          </a:xfrm>
          <a:prstGeom prst="rect">
            <a:avLst/>
          </a:prstGeom>
          <a:ln w="0">
            <a:noFill/>
          </a:ln>
        </p:spPr>
      </p:pic>
      <p:pic>
        <p:nvPicPr>
          <p:cNvPr id="883" name="Content Placeholder 3" descr="C:\Users\Peter\Pictures\Microsoft Clip Organizer\j0283830.gif"/>
          <p:cNvPicPr/>
          <p:nvPr/>
        </p:nvPicPr>
        <p:blipFill>
          <a:blip r:embed="rId3"/>
          <a:stretch/>
        </p:blipFill>
        <p:spPr>
          <a:xfrm>
            <a:off x="1428840" y="2071800"/>
            <a:ext cx="2160360" cy="2216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learner in the middle of your ey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5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pupi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6" name="Picture 2" descr="C:\Users\Peter\Pictures\Microsoft Clip Organizer\j0434734.png"/>
          <p:cNvPicPr/>
          <p:nvPr/>
        </p:nvPicPr>
        <p:blipFill>
          <a:blip r:embed="rId2"/>
          <a:stretch/>
        </p:blipFill>
        <p:spPr>
          <a:xfrm>
            <a:off x="5214960" y="2143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3" descr="C:\Users\Peter\Pictures\Microsoft Clip Organizer\j0415498.wmf"/>
          <p:cNvPicPr/>
          <p:nvPr/>
        </p:nvPicPr>
        <p:blipFill>
          <a:blip r:embed="rId3"/>
          <a:stretch/>
        </p:blipFill>
        <p:spPr>
          <a:xfrm>
            <a:off x="357120" y="2000160"/>
            <a:ext cx="4040280" cy="32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 Black"/>
              </a:rPr>
              <a:t>4.  More Examples of Homographs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5840" y="128592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ind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ind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 can feel the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ind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in my hair.</a:t>
            </a:r>
            <a:br>
              <a:rPr sz="2400"/>
            </a:b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ind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up the string before it gets tangled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(Same spelling, different pronunciation.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well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am doesn't feel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oday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Our neighbors are digging a new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(Same spelling, same pronunciation.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sixtieth of a minute is not first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8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econd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0" name="Picture 2" descr="C:\Users\Peter\Pictures\Microsoft Clip Organizer\j0432602.png"/>
          <p:cNvPicPr/>
          <p:nvPr/>
        </p:nvPicPr>
        <p:blipFill>
          <a:blip r:embed="rId2"/>
          <a:stretch/>
        </p:blipFill>
        <p:spPr>
          <a:xfrm>
            <a:off x="1185840" y="2043000"/>
            <a:ext cx="2600280" cy="26002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" descr="C:\Users\Peter\Pictures\Microsoft Clip Organizer\j0341690.jpg"/>
          <p:cNvPicPr/>
          <p:nvPr/>
        </p:nvPicPr>
        <p:blipFill>
          <a:blip r:embed="rId3"/>
          <a:stretch/>
        </p:blipFill>
        <p:spPr>
          <a:xfrm>
            <a:off x="5214960" y="16430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place where a group of fish lear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4" name="Picture 2" descr="C:\Users\Peter\Pictures\Microsoft Clip Organizer\j0436129.wmf"/>
          <p:cNvPicPr/>
          <p:nvPr/>
        </p:nvPicPr>
        <p:blipFill>
          <a:blip r:embed="rId2"/>
          <a:stretch/>
        </p:blipFill>
        <p:spPr>
          <a:xfrm>
            <a:off x="874800" y="1857240"/>
            <a:ext cx="3125880" cy="28209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6" name="Picture 3" descr="C:\Users\Peter\Pictures\Microsoft Clip Organizer\j0255511.jpg"/>
          <p:cNvPicPr/>
          <p:nvPr/>
        </p:nvPicPr>
        <p:blipFill>
          <a:blip r:embed="rId3"/>
          <a:stretch/>
        </p:blipFill>
        <p:spPr>
          <a:xfrm>
            <a:off x="4530600" y="2071800"/>
            <a:ext cx="3984840" cy="2609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keen supporter to cool you dow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fa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9" name="Picture 2" descr="C:\Users\Peter\Pictures\Microsoft Clip Organizer\j0286757.gif"/>
          <p:cNvPicPr/>
          <p:nvPr/>
        </p:nvPicPr>
        <p:blipFill>
          <a:blip r:embed="rId2"/>
          <a:stretch/>
        </p:blipFill>
        <p:spPr>
          <a:xfrm>
            <a:off x="1143000" y="2214720"/>
            <a:ext cx="2500200" cy="23907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" descr="C:\Users\Peter\Pictures\Microsoft Clip Organizer\j0336841.gif"/>
          <p:cNvPicPr/>
          <p:nvPr/>
        </p:nvPicPr>
        <p:blipFill>
          <a:blip r:embed="rId3"/>
          <a:stretch/>
        </p:blipFill>
        <p:spPr>
          <a:xfrm>
            <a:off x="5214960" y="2357280"/>
            <a:ext cx="2311200" cy="2230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j0074912.wav" descr=""/>
          <p:cNvPicPr/>
          <p:nvPr/>
        </p:nvPicPr>
        <p:blipFill>
          <a:blip r:embed="rId2"/>
          <a:stretch/>
        </p:blipFill>
        <p:spPr>
          <a:xfrm>
            <a:off x="5143680" y="32148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Move your hand as the water comes in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0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wav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04" name="Picture 2" descr="C:\Users\Peter\Pictures\Microsoft Clip Organizer\j0336447.gif"/>
          <p:cNvPicPr/>
          <p:nvPr/>
        </p:nvPicPr>
        <p:blipFill>
          <a:blip r:embed="rId3"/>
          <a:stretch/>
        </p:blipFill>
        <p:spPr>
          <a:xfrm>
            <a:off x="857160" y="21430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" descr="C:\Users\Peter\Pictures\Microsoft Clip Organizer\na02321_.wmf"/>
          <p:cNvPicPr/>
          <p:nvPr/>
        </p:nvPicPr>
        <p:blipFill>
          <a:blip r:embed="rId4"/>
          <a:stretch/>
        </p:blipFill>
        <p:spPr>
          <a:xfrm>
            <a:off x="4357800" y="1428840"/>
            <a:ext cx="4421160" cy="3468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1" dur="1" fill="hold"/>
                                        <p:tgtEl>
                                          <p:spTgt spid="9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j0075066.wav" descr=""/>
          <p:cNvPicPr/>
          <p:nvPr/>
        </p:nvPicPr>
        <p:blipFill>
          <a:blip r:embed="rId2"/>
          <a:stretch/>
        </p:blipFill>
        <p:spPr>
          <a:xfrm>
            <a:off x="7143840" y="40006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less heavy way to start a fire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08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lighter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09" name="Picture 2" descr="C:\Users\Peter\Pictures\Microsoft Clip Organizer\j0296989.gif"/>
          <p:cNvPicPr/>
          <p:nvPr/>
        </p:nvPicPr>
        <p:blipFill>
          <a:blip r:embed="rId3"/>
          <a:stretch/>
        </p:blipFill>
        <p:spPr>
          <a:xfrm>
            <a:off x="5143680" y="1714680"/>
            <a:ext cx="2286000" cy="29066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" descr="C:\Users\Peter\Pictures\Microsoft Clip Organizer\j0336857.gif"/>
          <p:cNvPicPr/>
          <p:nvPr/>
        </p:nvPicPr>
        <p:blipFill>
          <a:blip r:embed="rId4"/>
          <a:stretch/>
        </p:blipFill>
        <p:spPr>
          <a:xfrm>
            <a:off x="1285920" y="2571840"/>
            <a:ext cx="2914560" cy="2428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0" dur="197" fill="hold"/>
                                        <p:tgtEl>
                                          <p:spTgt spid="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dog does this on the outside of a tree trunk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12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bark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13" name="Picture 2" descr="C:\Users\Peter\Pictures\Microsoft Clip Organizer\AG00184_.gif"/>
          <p:cNvPicPr/>
          <p:nvPr/>
        </p:nvPicPr>
        <p:blipFill>
          <a:blip r:embed="rId2"/>
          <a:stretch/>
        </p:blipFill>
        <p:spPr>
          <a:xfrm>
            <a:off x="1143000" y="2000160"/>
            <a:ext cx="3819600" cy="2355840"/>
          </a:xfrm>
          <a:prstGeom prst="rect">
            <a:avLst/>
          </a:prstGeom>
          <a:ln w="0">
            <a:noFill/>
          </a:ln>
        </p:spPr>
      </p:pic>
      <p:pic>
        <p:nvPicPr>
          <p:cNvPr id="914" name="j0388449.wav" descr=""/>
          <p:cNvPicPr/>
          <p:nvPr/>
        </p:nvPicPr>
        <p:blipFill>
          <a:blip r:embed="rId3"/>
          <a:stretch/>
        </p:blipFill>
        <p:spPr>
          <a:xfrm>
            <a:off x="714240" y="71438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915" name="Group 8"/>
          <p:cNvGrpSpPr/>
          <p:nvPr/>
        </p:nvGrpSpPr>
        <p:grpSpPr>
          <a:xfrm>
            <a:off x="5143680" y="1643040"/>
            <a:ext cx="2928600" cy="2928960"/>
            <a:chOff x="5143680" y="1643040"/>
            <a:chExt cx="2928600" cy="2928960"/>
          </a:xfrm>
        </p:grpSpPr>
        <p:pic>
          <p:nvPicPr>
            <p:cNvPr id="916" name="Picture 3" descr="C:\Users\Peter\Pictures\Microsoft Clip Organizer\j0434841.png"/>
            <p:cNvPicPr/>
            <p:nvPr/>
          </p:nvPicPr>
          <p:blipFill>
            <a:blip r:embed="rId4"/>
            <a:stretch/>
          </p:blipFill>
          <p:spPr>
            <a:xfrm>
              <a:off x="5143680" y="1643040"/>
              <a:ext cx="2928600" cy="2928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17" name="Elbow Connector 10"/>
            <p:cNvCxnSpPr/>
            <p:nvPr/>
          </p:nvCxnSpPr>
          <p:spPr>
            <a:xfrm>
              <a:off x="5285880" y="3714480"/>
              <a:ext cx="929160" cy="572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00"/>
              </a:solidFill>
              <a:round/>
              <a:tailEnd len="med" type="arrow" w="med"/>
            </a:ln>
          </p:spPr>
        </p:cxnSp>
      </p:grpSp>
    </p:spTree>
  </p:cSld>
  <p:transition>
    <p:push dir="u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Smooth, not odd numbers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19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even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20" name="Content Placeholder 2" descr="C:\Users\Peter\Pictures\Microsoft Clip Organizer\j0318139.gif"/>
          <p:cNvPicPr/>
          <p:nvPr/>
        </p:nvPicPr>
        <p:blipFill>
          <a:blip r:embed="rId2"/>
          <a:stretch/>
        </p:blipFill>
        <p:spPr>
          <a:xfrm>
            <a:off x="1714680" y="1928880"/>
            <a:ext cx="2214360" cy="281124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 txBox="1"/>
          <p:nvPr/>
        </p:nvSpPr>
        <p:spPr>
          <a:xfrm>
            <a:off x="4643280" y="1643040"/>
            <a:ext cx="4042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Does it squeak when it moves the cursor?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mous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24" name="Picture 2" descr="C:\Users\Peter\Pictures\Microsoft Clip Organizer\j0395727.gif"/>
          <p:cNvPicPr/>
          <p:nvPr/>
        </p:nvPicPr>
        <p:blipFill>
          <a:blip r:embed="rId2"/>
          <a:stretch/>
        </p:blipFill>
        <p:spPr>
          <a:xfrm>
            <a:off x="1357200" y="2143080"/>
            <a:ext cx="2722680" cy="2143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3" descr="C:\Users\Peter\Pictures\Microsoft Clip Organizer\AG00277_.gif"/>
          <p:cNvPicPr/>
          <p:nvPr/>
        </p:nvPicPr>
        <p:blipFill>
          <a:blip r:embed="rId3"/>
          <a:stretch/>
        </p:blipFill>
        <p:spPr>
          <a:xfrm>
            <a:off x="3906720" y="1928880"/>
            <a:ext cx="5403960" cy="2571840"/>
          </a:xfrm>
          <a:prstGeom prst="rect">
            <a:avLst/>
          </a:prstGeom>
          <a:ln w="0">
            <a:noFill/>
          </a:ln>
        </p:spPr>
      </p:pic>
      <p:pic>
        <p:nvPicPr>
          <p:cNvPr id="926" name="SN00695A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7" name="SN00696A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8" name="SN00697A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9" name="SN00354_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0" name="SN00696A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1" name="SN00695A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0" dur="409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0" dur="1225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409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182" fill="hold"/>
                                        <p:tgtEl>
                                          <p:spTgt spid="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5" dur="175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The color of a fruit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33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orange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857160" y="1928880"/>
            <a:ext cx="3500640" cy="2286000"/>
          </a:xfrm>
          <a:prstGeom prst="rect">
            <a:avLst/>
          </a:prstGeom>
          <a:solidFill>
            <a:srgbClr val="ff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5" name="Content Placeholder 2" descr="C:\Users\Peter\Pictures\Microsoft Clip Organizer\PH03357I.jpg"/>
          <p:cNvPicPr/>
          <p:nvPr/>
        </p:nvPicPr>
        <p:blipFill>
          <a:blip r:embed="rId2"/>
          <a:stretch/>
        </p:blipFill>
        <p:spPr>
          <a:xfrm>
            <a:off x="4786200" y="192888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Glue the long piece of wood.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37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tick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8" name="Picture 3" descr="C:\Users\Peter\Pictures\Microsoft Clip Organizer\j0406256.wmf"/>
          <p:cNvPicPr/>
          <p:nvPr/>
        </p:nvPicPr>
        <p:blipFill>
          <a:blip r:embed="rId2"/>
          <a:stretch/>
        </p:blipFill>
        <p:spPr>
          <a:xfrm>
            <a:off x="1279440" y="1857240"/>
            <a:ext cx="3149640" cy="311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" descr="C:\Users\Peter\Pictures\Microsoft Clip Organizer\bd08608_.wmf"/>
          <p:cNvPicPr/>
          <p:nvPr/>
        </p:nvPicPr>
        <p:blipFill>
          <a:blip r:embed="rId3"/>
          <a:stretch/>
        </p:blipFill>
        <p:spPr>
          <a:xfrm>
            <a:off x="5214960" y="2500200"/>
            <a:ext cx="2857320" cy="2467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5-6. What are Homophones?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Homophones are words that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oun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like, but have different meanings and spellings.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here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o, too,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6600"/>
                </a:solidFill>
                <a:latin typeface="Arial"/>
              </a:rPr>
              <a:t>two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reate a list of more homophones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Arial Black"/>
              </a:rPr>
              <a:t>A season to go boing!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spring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42" name="Content Placeholder 2" descr="C:\Users\Peter\Pictures\Microsoft Clip Organizer\j0297041.gif"/>
          <p:cNvPicPr/>
          <p:nvPr/>
        </p:nvPicPr>
        <p:blipFill>
          <a:blip r:embed="rId2"/>
          <a:stretch/>
        </p:blipFill>
        <p:spPr>
          <a:xfrm>
            <a:off x="1357200" y="2000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43" name="SN01124A.wav" descr=""/>
          <p:cNvPicPr/>
          <p:nvPr/>
        </p:nvPicPr>
        <p:blipFill>
          <a:blip r:embed="rId3"/>
          <a:stretch/>
        </p:blipFill>
        <p:spPr>
          <a:xfrm>
            <a:off x="5572080" y="3214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" descr="C:\Users\Peter\Pictures\Microsoft Clip Organizer\j0323830.gif"/>
          <p:cNvPicPr/>
          <p:nvPr/>
        </p:nvPicPr>
        <p:blipFill>
          <a:blip r:embed="rId4"/>
          <a:stretch/>
        </p:blipFill>
        <p:spPr>
          <a:xfrm>
            <a:off x="5572080" y="1928880"/>
            <a:ext cx="2214720" cy="2565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3" dur="1" fill="hold"/>
                                        <p:tgtEl>
                                          <p:spTgt spid="9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80"/>
                </a:solidFill>
                <a:latin typeface="Arial Black"/>
              </a:rPr>
              <a:t>A tree in the middle of your hand.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46" name="TextBox 7"/>
          <p:cNvSpPr/>
          <p:nvPr/>
        </p:nvSpPr>
        <p:spPr>
          <a:xfrm>
            <a:off x="3143160" y="52149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6600"/>
                </a:solidFill>
                <a:latin typeface="Arial"/>
              </a:rPr>
              <a:t>palm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47" name="Picture 3" descr="C:\Users\Peter\Pictures\Microsoft Clip Organizer\j0411948.wmf"/>
          <p:cNvPicPr/>
          <p:nvPr/>
        </p:nvPicPr>
        <p:blipFill>
          <a:blip r:embed="rId2"/>
          <a:stretch/>
        </p:blipFill>
        <p:spPr>
          <a:xfrm>
            <a:off x="1214280" y="1857240"/>
            <a:ext cx="2643480" cy="3391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C:\Users\Peter\Pictures\Microsoft Clip Organizer\j0411792.jpg"/>
          <p:cNvPicPr/>
          <p:nvPr/>
        </p:nvPicPr>
        <p:blipFill>
          <a:blip r:embed="rId3"/>
          <a:stretch/>
        </p:blipFill>
        <p:spPr>
          <a:xfrm>
            <a:off x="4572000" y="2428920"/>
            <a:ext cx="3357720" cy="2236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602320" cy="28782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explore homonyms which have the same spelling but multiple meanings and explain how the meanings can be distinguished in context, e.g. form (shape or a document), wave (gesture or motion)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can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dentify the homonym in at least half the sentences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ke up another sentence, with your talking partner, to show the other meaning for that homonym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56480" cy="115092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each slide, your task is to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ad the sentence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ind the homonym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ith your partner, design a sentence using the same homonym but with its other meaning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are your sentence with the clas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the given sentence i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I like bread and strawberry j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nd your partner might sa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y dad got stuck in the traffic j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Can you spot the homonym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train leaves at 1:00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children wave goodbye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3760" y="2286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so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saw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soa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1" name="Picture 11" descr="http://members.fortunecity.com/agreeve/comics/SORE.gif"/>
          <p:cNvPicPr/>
          <p:nvPr/>
        </p:nvPicPr>
        <p:blipFill>
          <a:blip r:embed="rId4"/>
          <a:stretch/>
        </p:blipFill>
        <p:spPr>
          <a:xfrm>
            <a:off x="1066680" y="2819520"/>
            <a:ext cx="2425680" cy="32763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1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03" name="Picture 20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04" name="AutoShape 22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The giant rose from his enormous seat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We went on a lovely trip to the zoo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How many letters are in this sentence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 is the homony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another sentence using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de66"/>
                </a:solidFill>
                <a:latin typeface="Comic Sans MS"/>
              </a:rPr>
              <a:t>We went to book our seats on the plane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 deci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hich words are homonym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With your partner, make up sentences using th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hare your sent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sh dir="u"/>
  </p:transition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9" descr="http://tell.fll.purdue.edu/JapanProj/FLClipart/Verbs/writeletter.gif"/>
          <p:cNvPicPr/>
          <p:nvPr/>
        </p:nvPicPr>
        <p:blipFill>
          <a:blip r:embed="rId1"/>
          <a:stretch/>
        </p:blipFill>
        <p:spPr>
          <a:xfrm>
            <a:off x="533520" y="3048120"/>
            <a:ext cx="3429000" cy="264924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righ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rit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4" action="ppaction://hlinksldjump"/>
              </a:rPr>
              <a:t>writ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 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09" name="Picture 17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18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4572000" y="2076480"/>
            <a:ext cx="3657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I’l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s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750"/>
              </a:spcBef>
              <a:buClr>
                <a:srgbClr val="85dfd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5dfd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aisl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12" name="Picture 6" descr="http://serp.la.asu.edu/clipart_dir/places/places_imag/island.gif"/>
          <p:cNvPicPr/>
          <p:nvPr/>
        </p:nvPicPr>
        <p:blipFill>
          <a:blip r:embed="rId4"/>
          <a:stretch/>
        </p:blipFill>
        <p:spPr>
          <a:xfrm>
            <a:off x="762120" y="2514600"/>
            <a:ext cx="3149640" cy="3429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8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15" name="Picture 10" descr="http://www.wyrebc.gov.uk/Council_Services/Pollution_Control/Noise_Pollution/Noise_Action_Day/Images/Clipart_Man_with_Hearing_Aid.jpg"/>
          <p:cNvPicPr/>
          <p:nvPr/>
        </p:nvPicPr>
        <p:blipFill>
          <a:blip r:embed="rId5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11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4572000" y="1741320"/>
            <a:ext cx="36576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1" action="ppaction://hlinksldjump"/>
              </a:rPr>
              <a:t>pou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paw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3" action="ppaction://hlinksldjump"/>
              </a:rPr>
              <a:t>po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Comic Sans MS"/>
              </a:rPr>
              <a:t>   </a:t>
            </a:r>
            <a:r>
              <a:rPr b="0" lang="en-GB" sz="4400" spc="-1" strike="noStrike" u="sng">
                <a:solidFill>
                  <a:srgbClr val="e2d700"/>
                </a:solidFill>
                <a:uFillTx/>
                <a:latin typeface="Comic Sans MS"/>
                <a:hlinkClick r:id="rId4" action="ppaction://hlinksldjump"/>
              </a:rPr>
              <a:t>poo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18" name="Picture 11" descr="http://www.crowellisd.net/paw_print_clipart_2.gif"/>
          <p:cNvPicPr/>
          <p:nvPr/>
        </p:nvPicPr>
        <p:blipFill>
          <a:blip r:embed="rId5"/>
          <a:stretch/>
        </p:blipFill>
        <p:spPr>
          <a:xfrm>
            <a:off x="609480" y="4221000"/>
            <a:ext cx="1360440" cy="16462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2" descr="http://www.crowellisd.net/paw_print_clipart_2.gif"/>
          <p:cNvPicPr/>
          <p:nvPr/>
        </p:nvPicPr>
        <p:blipFill>
          <a:blip r:embed="rId6"/>
          <a:stretch/>
        </p:blipFill>
        <p:spPr>
          <a:xfrm>
            <a:off x="2057400" y="3078000"/>
            <a:ext cx="1360440" cy="164628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1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dd9"/>
                </a:solidFill>
                <a:latin typeface="Cooper Black"/>
              </a:rPr>
              <a:t>Homophones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5dfd0"/>
                </a:solidFill>
                <a:latin typeface="Cooper Black"/>
              </a:rPr>
              <a:t>7. Homophon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2" name="Picture 16" descr="http://www.wyrebc.gov.uk/Council_Services/Pollution_Control/Noise_Pollution/Noise_Action_Day/Images/Clipart_Man_with_Hearing_Aid.jpg"/>
          <p:cNvPicPr/>
          <p:nvPr/>
        </p:nvPicPr>
        <p:blipFill>
          <a:blip r:embed="rId7"/>
          <a:stretch/>
        </p:blipFill>
        <p:spPr>
          <a:xfrm>
            <a:off x="7356600" y="0"/>
            <a:ext cx="1787400" cy="1465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7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9:44:20Z</dcterms:created>
  <dc:creator>Peter</dc:creator>
  <dc:description/>
  <dc:language>en-US</dc:language>
  <cp:lastModifiedBy>Nvasquez</cp:lastModifiedBy>
  <dcterms:modified xsi:type="dcterms:W3CDTF">2009-10-08T13:56:30Z</dcterms:modified>
  <cp:revision>73</cp:revision>
  <dc:subject/>
  <dc:title>Homonyms</dc:title>
</cp:coreProperties>
</file>